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49DB-036D-476C-8DDF-22B18C64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16D-4245-43B3-ACD3-048BEE37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704-4F70-4469-8358-3FDCE690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4C5-4ED1-426A-89CB-7E658977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05-38D7-446E-A988-52726B0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29A-74A6-441E-9F1B-99FD74E0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6BE-AC30-4548-BF8D-2251717C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2B0-08B0-44A3-8EF3-FC3DDC94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6593-993B-4599-A7F4-B787AE01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A4B-20F4-417E-82B2-6F93671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AFC-61BC-4A30-B9CB-BAB8AA6F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F84-036D-4C70-9CF6-8D6853C1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76A-FF8F-4A47-B62D-EE2AC791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Haettenschweiler"/>
              </a:rPr>
              <a:t>The color of poetr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aettenschweiler"/>
              </a:rPr>
              <a:t>[Jessica Thoma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66680" y="275760"/>
            <a:ext cx="7820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Steam, graceful but dangerous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an burn the human hands as we make herbal tea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nd sitting, watching is the panda, black and whit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170720" y="2209680"/>
            <a:ext cx="1178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The hunter, top of the food chain,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poor the ripened red of nature’s blood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86920"/>
            <a:ext cx="9495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In our world, we wear the ski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our tiger friend, and elephant, they are sponges of our pain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but still, sits a panda, black and white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Haettenschweiler"/>
              </a:rPr>
              <a:t>Coloring the wor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Haettenschweiler"/>
              </a:rPr>
              <a:t>R e m i n i s c 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889560" y="1981080"/>
            <a:ext cx="1076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You moved through my soul with strong e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Such ones of love-like scarlet sen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213920"/>
            <a:ext cx="7467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Pure love like white clouds on a summer’s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Past love, like Romeo and Juli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000" y="2285280"/>
            <a:ext cx="86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You were the power in my dev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529560" y="2056680"/>
            <a:ext cx="103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Lost in a timeless love, our hearts beat f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We were such fools to promise we’d 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66760" y="2056680"/>
            <a:ext cx="960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I can’t live with you, but neither with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aettenschweiler"/>
              </a:rPr>
              <a:t>We sparked a fire we couldn’t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560520" y="24375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aettenschweiler"/>
              </a:rPr>
              <a:t>Burned into the future, you are my p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900"/>
                </a:solidFill>
                <a:latin typeface="Haettenschweiler"/>
              </a:rPr>
              <a:t>Dreamday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Haettenschweiler"/>
              </a:rPr>
              <a:t>F I N 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573560" y="532800"/>
            <a:ext cx="104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everal minutes past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fall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watched her dance within the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400" y="2361600"/>
            <a:ext cx="10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With cotton pillow lips and cheeks of r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Bound to the world behind 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9800" y="4480920"/>
            <a:ext cx="819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he is th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workar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t of the can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073520" y="685080"/>
            <a:ext cx="75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inging with a voice of velv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he is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disaster’s natural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 c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0480" y="2666160"/>
            <a:ext cx="647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Hair golden lik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shines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10840" y="4037760"/>
            <a:ext cx="8448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reach out. For it I long to sto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As if to climb on top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But I back down and cho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9920" y="456480"/>
            <a:ext cx="41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Flee, flee, I fl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3920" y="1751760"/>
            <a:ext cx="82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Her beauty is too strong for 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705240" y="3047400"/>
            <a:ext cx="9559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Still dancing like a baller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The stars like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flydragons</a:t>
            </a: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 in this sce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I am the obsessed </a:t>
            </a:r>
            <a:r>
              <a:rPr b="1" i="1" lang="en-US" sz="4000" spc="-1" strike="noStrike">
                <a:solidFill>
                  <a:srgbClr val="ff9900"/>
                </a:solidFill>
                <a:latin typeface="Haettenschweiler"/>
              </a:rPr>
              <a:t>hatterm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Haettenschweiler"/>
              </a:rPr>
              <a:t>Gone bashful in this d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Haettenschweiler"/>
              </a:rPr>
              <a:t>Human Natur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182680" y="2287440"/>
            <a:ext cx="1351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There sits a panda, black and wh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In the forest; bamboo chutes of envy gre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2845800" y="1143720"/>
            <a:ext cx="1485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We pick, like hunters, the rosy red petals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of the hibiscus flower,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nd out the window is a panda, black and white.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80800" y="2134080"/>
            <a:ext cx="98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White ivory of the jungle flower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are pearls of Mother Nature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Haettenschweiler"/>
              </a:rPr>
              <a:t>Coloring the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4:27:35Z</dcterms:created>
  <dc:creator>Virginia Beach City Public Schools</dc:creator>
  <dc:description/>
  <dc:language>en-US</dc:language>
  <cp:lastModifiedBy>Virginia Beach City Public Schools</cp:lastModifiedBy>
  <dcterms:modified xsi:type="dcterms:W3CDTF">2008-06-09T15:42:47Z</dcterms:modified>
  <cp:revision>4</cp:revision>
  <dc:subject/>
  <dc:title>The color of poetry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">
    <vt:lpwstr/>
  </property>
  <property fmtid="{D5CDD505-2E9C-101B-9397-08002B2CF9AE}" pid="3" name="Due Date">
    <vt:lpwstr/>
  </property>
  <property fmtid="{D5CDD505-2E9C-101B-9397-08002B2CF9AE}" pid="4" name="Teacher">
    <vt:lpwstr/>
  </property>
</Properties>
</file>